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087-0585-4FA8-99B5-1A8346FB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E46-1E24-4953-A2F1-E3F0393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3BF-C1C4-47A3-B2D4-E96B7C17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622-555D-4AFC-BF6C-AFDA7CAE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AF1-9471-4235-81CD-7E898B78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625B-5867-4D94-9FD9-64F4B527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92CD-2C3D-4105-A0CA-A2B5E10D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90F3-BA0A-47A8-AE4E-C56FCF6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D602-4C74-45E3-8699-3B05DDC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772F-68AD-426C-ACC2-7716AB6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1FB-7B6E-4EB4-8BF6-D44C018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BE5-6658-412E-86E7-9AEEF1C7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D3F-78C8-48C7-AE0F-A5A7301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3EB-B7D3-4B96-89B6-DFA8147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6841-2F61-44F7-B225-4E8A9CC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5E90-ABB0-4AB5-B667-B004FDAC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465-6FB0-4ECA-B758-EACBFD64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375-0DB7-47E9-94A5-BFAA6C2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0EA-5353-4D34-B525-2F515A1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D6D-D1DF-4A6E-AB44-DFDAD421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802-4284-4163-8659-E9FF98C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FC8-74E3-4B93-8CF2-4436A174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888-3A87-4276-AF42-7EA14BD4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BE2-3236-47A6-BDE8-69F05D3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5048-327D-4D2F-A72D-5422A34CD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94D-FBDA-4E67-9109-146748FC0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ison M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62B-B365-4BCE-94ED-E0CE211B661A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informed about polar bears and there exist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ment- Polar bears live in the north areas such as, Alaska, Canada, Russia, Norway, and Greenland. They DO NOT live in Antarctica. Penguins 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do they survive in the artic environment?- Polar bears love the artic climate, where winter tempatures reach to -50 degrees. They are covered by two layers of fur that help keep them warm. They also have a thick fat lay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ar Bear diet- Polar bears tend to feed on seals, which is the highest calorie food source possible. The females tend to hunt the smaller seals, and the males hunt the larger seal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cubs can a female bear have?- A female polar bear can have up 1 to 3 cub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ators- The only predators polar bears have are humans and sometimes other polar bear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5:42:13Z</dcterms:created>
  <dc:creator>Mills Madison</dc:creator>
  <dc:description/>
  <dc:language>en-US</dc:language>
  <cp:lastModifiedBy>Student</cp:lastModifiedBy>
  <dcterms:modified xsi:type="dcterms:W3CDTF">2013-02-20T04:07:54Z</dcterms:modified>
  <cp:revision>40</cp:revision>
  <dc:subject/>
  <dc:title>The Pitch-Then-Plan Business Planning Template</dc:title>
</cp:coreProperties>
</file>